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56A8-E4E9-4B0A-A176-670FCA2336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FDC9-4B8A-49A5-9EEE-F47411D62D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BD3-ADE7-4A51-B1E0-813D4F16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8E6-9D36-4E9A-8393-419C5119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C9D-6702-469B-8E29-4D687EBC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165-927F-43D8-839C-28B9AE50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4995-E868-4B8C-8C27-D2DDFC8E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3D5-9E91-4DB2-92A5-17A0A767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62F-793A-4094-A807-45ED1B84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7F36-0750-476F-AE83-AF8E2462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DC7-653A-44A7-8629-C8A111F9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A0C-C2D2-46A8-9765-4E24C720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4AD-0E9D-4829-B352-0E2E4D29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AF7-DEAD-4E81-B90B-522FB6CC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2ADC-F021-45C1-ABAA-BE402042F0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-1000440"/>
            <a:ext cx="7743960" cy="32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Наша страна</a:t>
            </a:r>
            <a:r>
              <a:rPr b="1" lang="en-US" sz="4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- Рос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Картинка 3 из 64000"/>
          <p:cNvPicPr/>
          <p:nvPr/>
        </p:nvPicPr>
        <p:blipFill>
          <a:blip r:embed="rId1"/>
          <a:stretch/>
        </p:blipFill>
        <p:spPr>
          <a:xfrm>
            <a:off x="500040" y="1000080"/>
            <a:ext cx="81439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Картинка 47 из 50301"/>
          <p:cNvPicPr/>
          <p:nvPr/>
        </p:nvPicPr>
        <p:blipFill>
          <a:blip r:embed="rId1"/>
          <a:stretch/>
        </p:blipFill>
        <p:spPr>
          <a:xfrm>
            <a:off x="468360" y="1428840"/>
            <a:ext cx="820728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915804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Calibri"/>
              </a:rPr>
              <a:t>Московский государственный университ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Картинка 1 из 84000"/>
          <p:cNvPicPr/>
          <p:nvPr/>
        </p:nvPicPr>
        <p:blipFill>
          <a:blip r:embed="rId1"/>
          <a:stretch/>
        </p:blipFill>
        <p:spPr>
          <a:xfrm>
            <a:off x="324000" y="1500120"/>
            <a:ext cx="83516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Московский цир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Картинка 6 из 25829"/>
          <p:cNvPicPr/>
          <p:nvPr/>
        </p:nvPicPr>
        <p:blipFill>
          <a:blip r:embed="rId1"/>
          <a:stretch/>
        </p:blipFill>
        <p:spPr>
          <a:xfrm>
            <a:off x="428760" y="1428840"/>
            <a:ext cx="828648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Картинка 35 из 75494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 flipV="1" rot="10800000">
            <a:off x="899640" y="188640"/>
            <a:ext cx="686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"/>
              </a:rPr>
              <a:t>Мет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933c"/>
                </a:solidFill>
                <a:latin typeface="Calibri"/>
              </a:rPr>
              <a:t>Станция метр</a:t>
            </a:r>
            <a:r>
              <a:rPr b="1" lang="en-US" sz="4400" spc="-1" strike="noStrike">
                <a:solidFill>
                  <a:srgbClr val="77933c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Картинка 86 из 75494"/>
          <p:cNvPicPr/>
          <p:nvPr/>
        </p:nvPicPr>
        <p:blipFill>
          <a:blip r:embed="rId1"/>
          <a:stretch/>
        </p:blipFill>
        <p:spPr>
          <a:xfrm>
            <a:off x="357120" y="1428840"/>
            <a:ext cx="835812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Стадион Луж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Картинка 22 из 7598"/>
          <p:cNvPicPr/>
          <p:nvPr/>
        </p:nvPicPr>
        <p:blipFill>
          <a:blip r:embed="rId1"/>
          <a:stretch/>
        </p:blipFill>
        <p:spPr>
          <a:xfrm>
            <a:off x="428760" y="1357200"/>
            <a:ext cx="82864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428760" y="428400"/>
            <a:ext cx="907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Главные символ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Герб России"/>
          <p:cNvPicPr/>
          <p:nvPr/>
        </p:nvPicPr>
        <p:blipFill>
          <a:blip r:embed="rId1"/>
          <a:stretch/>
        </p:blipFill>
        <p:spPr>
          <a:xfrm>
            <a:off x="755640" y="1844640"/>
            <a:ext cx="3143160" cy="393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im3-tub.yandex.net/i?id=100775613-06"/>
          <p:cNvPicPr/>
          <p:nvPr/>
        </p:nvPicPr>
        <p:blipFill>
          <a:blip r:embed="rId2"/>
          <a:stretch/>
        </p:blipFill>
        <p:spPr>
          <a:xfrm>
            <a:off x="4500720" y="1916280"/>
            <a:ext cx="36432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Дом Правитель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Картинка 7 из 34134"/>
          <p:cNvPicPr/>
          <p:nvPr/>
        </p:nvPicPr>
        <p:blipFill>
          <a:blip r:embed="rId1"/>
          <a:stretch/>
        </p:blipFill>
        <p:spPr>
          <a:xfrm>
            <a:off x="428760" y="1125360"/>
            <a:ext cx="82864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Красная площа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142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fotomoskva.net.ru/imgk/345kpk.jpg"/>
          <p:cNvPicPr/>
          <p:nvPr/>
        </p:nvPicPr>
        <p:blipFill>
          <a:blip r:embed="rId1"/>
          <a:stretch/>
        </p:blipFill>
        <p:spPr>
          <a:xfrm>
            <a:off x="428760" y="961920"/>
            <a:ext cx="842940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Картинка 47 из 22138"/>
          <p:cNvPicPr/>
          <p:nvPr/>
        </p:nvPicPr>
        <p:blipFill>
          <a:blip r:embed="rId1"/>
          <a:stretch/>
        </p:blipFill>
        <p:spPr>
          <a:xfrm>
            <a:off x="571680" y="907920"/>
            <a:ext cx="7881840" cy="561672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1285920" y="18900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</a:rPr>
              <a:t>Царь – коло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Картинка 121 из 23168"/>
          <p:cNvPicPr/>
          <p:nvPr/>
        </p:nvPicPr>
        <p:blipFill>
          <a:blip r:embed="rId1"/>
          <a:stretch/>
        </p:blipFill>
        <p:spPr>
          <a:xfrm>
            <a:off x="214200" y="857160"/>
            <a:ext cx="8696520" cy="5811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Calibri"/>
              </a:rPr>
              <a:t>МАВЗОЛЕЙ  ЛЕНИНА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Мавзо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Московский 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Картинка 27 из 84000"/>
          <p:cNvPicPr/>
          <p:nvPr/>
        </p:nvPicPr>
        <p:blipFill>
          <a:blip r:embed="rId1"/>
          <a:stretch/>
        </p:blipFill>
        <p:spPr>
          <a:xfrm>
            <a:off x="214200" y="1143000"/>
            <a:ext cx="87156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Calibri"/>
              </a:rPr>
              <a:t>Спасская башня. Кремлевские кура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Картинка 16 из 9822"/>
          <p:cNvPicPr/>
          <p:nvPr/>
        </p:nvPicPr>
        <p:blipFill>
          <a:blip r:embed="rId2"/>
          <a:stretch/>
        </p:blipFill>
        <p:spPr>
          <a:xfrm>
            <a:off x="324000" y="1571760"/>
            <a:ext cx="8280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Третьяковская галере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 rot="10800000">
            <a:off x="1801800" y="10115640"/>
            <a:ext cx="8229600" cy="1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Картинка 25 из 21635"/>
          <p:cNvPicPr/>
          <p:nvPr/>
        </p:nvPicPr>
        <p:blipFill>
          <a:blip r:embed="rId2"/>
          <a:stretch/>
        </p:blipFill>
        <p:spPr>
          <a:xfrm>
            <a:off x="500040" y="1428840"/>
            <a:ext cx="814392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7:23:53Z</dcterms:created>
  <dc:creator>User</dc:creator>
  <dc:description/>
  <dc:language>en-US</dc:language>
  <cp:lastModifiedBy>User</cp:lastModifiedBy>
  <dcterms:modified xsi:type="dcterms:W3CDTF">2010-02-12T02:14:43Z</dcterms:modified>
  <cp:revision>32</cp:revision>
  <dc:subject/>
  <dc:title>Наша страна- Россия.</dc:title>
</cp:coreProperties>
</file>