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678-37AC-457A-95CC-7DF2BC85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B23-81E6-41A8-A7BF-8079A886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C89-C4AD-40B0-AC57-E35BD8D2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2BB-2104-48A6-A8F5-2E21A197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4B8-C926-4BAD-87BB-0FC272B1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EA4-CCA0-47CA-89A2-5E799E4C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C2B-5612-4178-A7CA-AD9F174F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380-3CD2-4AC7-A76E-D1C9ECE3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FF4-8230-4271-A0FF-1785EDFE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899-D188-4483-B422-403F49F4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226-37CC-4E19-8547-863C4D61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241-979C-4133-A750-261BDB0A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F55B-CFAA-4365-BA05-72269B3324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Arial"/>
              </a:rPr>
              <a:t>Трейвик - маги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63817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1"/>
          <p:cNvSpPr/>
          <p:nvPr/>
        </p:nvSpPr>
        <p:spPr>
          <a:xfrm>
            <a:off x="1571760" y="714240"/>
            <a:ext cx="5929200" cy="5429520"/>
          </a:xfrm>
          <a:prstGeom prst="rect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5"/>
          <p:cNvSpPr/>
          <p:nvPr/>
        </p:nvSpPr>
        <p:spPr>
          <a:xfrm flipH="1">
            <a:off x="1571760" y="714240"/>
            <a:ext cx="5929200" cy="542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7"/>
          <p:cNvSpPr/>
          <p:nvPr/>
        </p:nvSpPr>
        <p:spPr>
          <a:xfrm>
            <a:off x="1571760" y="714240"/>
            <a:ext cx="5929200" cy="542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928880" y="571680"/>
            <a:ext cx="1511280" cy="15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1928880" y="571680"/>
            <a:ext cx="1511280" cy="15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571680" y="2714760"/>
            <a:ext cx="172692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57160" y="2928960"/>
            <a:ext cx="115272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6072120" y="714240"/>
            <a:ext cx="1513080" cy="15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7215120" y="1571760"/>
            <a:ext cx="12956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6572160" y="4357800"/>
            <a:ext cx="1511280" cy="1439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7215120" y="3786120"/>
            <a:ext cx="129564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3714840" y="3429000"/>
            <a:ext cx="151128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3000240" y="4500720"/>
            <a:ext cx="129708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500120"/>
          <a:ext cx="8229600" cy="47498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26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21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BBERASER"/>
          <p:cNvPicPr/>
          <p:nvPr/>
        </p:nvPicPr>
        <p:blipFill>
          <a:blip r:embed="rId1"/>
          <a:stretch/>
        </p:blipFill>
        <p:spPr>
          <a:xfrm>
            <a:off x="0" y="-142920"/>
            <a:ext cx="928692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285840" y="785880"/>
            <a:ext cx="3571920" cy="55166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3500280" y="642960"/>
            <a:ext cx="53578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b6bcf"/>
                </a:solidFill>
                <a:latin typeface="Arial"/>
              </a:rPr>
              <a:t>2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7 х 4      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6 х 4 +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низ 14"/>
          <p:cNvSpPr/>
          <p:nvPr/>
        </p:nvSpPr>
        <p:spPr>
          <a:xfrm rot="2358000">
            <a:off x="5165280" y="1987560"/>
            <a:ext cx="314280" cy="1219320"/>
          </a:xfrm>
          <a:prstGeom prst="downArrow">
            <a:avLst>
              <a:gd name="adj1" fmla="val 50000"/>
              <a:gd name="adj2" fmla="val 5009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низ 15"/>
          <p:cNvSpPr/>
          <p:nvPr/>
        </p:nvSpPr>
        <p:spPr>
          <a:xfrm rot="19522200">
            <a:off x="6727680" y="1990800"/>
            <a:ext cx="311400" cy="1247760"/>
          </a:xfrm>
          <a:prstGeom prst="downArrow">
            <a:avLst>
              <a:gd name="adj1" fmla="val 50000"/>
              <a:gd name="adj2" fmla="val 4984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1239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85480" y="1285560"/>
            <a:ext cx="9001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2268"/>
                </a:solidFill>
                <a:latin typeface="Arial"/>
              </a:rPr>
              <a:t>А + 12 = 15,так как 15</a:t>
            </a:r>
            <a:r>
              <a:rPr b="1" lang="en-US" sz="5400" spc="-1" strike="noStrike">
                <a:solidFill>
                  <a:srgbClr val="222268"/>
                </a:solidFill>
                <a:latin typeface="Arial"/>
              </a:rPr>
              <a:t> &lt; </a:t>
            </a:r>
            <a:r>
              <a:rPr b="1" lang="ru-RU" sz="5400" spc="-1" strike="noStrike">
                <a:solidFill>
                  <a:srgbClr val="222268"/>
                </a:solidFill>
                <a:latin typeface="Ari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2268"/>
                </a:solidFill>
                <a:latin typeface="Arial"/>
              </a:rPr>
              <a:t>А = 15 –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2268"/>
                </a:solidFill>
                <a:latin typeface="Arial"/>
              </a:rPr>
              <a:t>А =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74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3857760" y="428616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ри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1071720" y="56437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6643800" y="56437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117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84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642960" y="42876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7786800" y="357120"/>
            <a:ext cx="85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928800" y="3786120"/>
            <a:ext cx="71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7358040" y="4214880"/>
            <a:ext cx="107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7000920" y="192888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071800" y="2071800"/>
            <a:ext cx="71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28800" y="0"/>
            <a:ext cx="7429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5715000" y="571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1357200" y="585792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4143240" y="2786040"/>
            <a:ext cx="32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ИФМ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81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214280" y="428760"/>
            <a:ext cx="65725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099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700360" y="2685960"/>
            <a:ext cx="3776760" cy="2332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1600200" cy="1739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1000080" y="4357800"/>
            <a:ext cx="1295280" cy="212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3857760" y="1143000"/>
            <a:ext cx="1460520" cy="1447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5"/>
          <a:stretch/>
        </p:blipFill>
        <p:spPr>
          <a:xfrm>
            <a:off x="7093080" y="2924280"/>
            <a:ext cx="1231920" cy="1968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611280" y="40464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ч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286080" y="28584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 ча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6072120" y="164304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ча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4500720" y="5643720"/>
            <a:ext cx="192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 ча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3571920" y="285840"/>
            <a:ext cx="2158920" cy="3655800"/>
          </a:xfrm>
          <a:prstGeom prst="can">
            <a:avLst>
              <a:gd name="adj" fmla="val 24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6143760" y="285840"/>
            <a:ext cx="2130120" cy="3714840"/>
          </a:xfrm>
          <a:prstGeom prst="can">
            <a:avLst>
              <a:gd name="adj" fmla="val 239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928800" y="285840"/>
            <a:ext cx="2158920" cy="3798720"/>
          </a:xfrm>
          <a:prstGeom prst="can">
            <a:avLst>
              <a:gd name="adj" fmla="val 2369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571560" y="2328120"/>
            <a:ext cx="2151360" cy="1472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000080" y="41432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3786120" y="414324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6715080" y="41432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1785960" y="5214960"/>
            <a:ext cx="62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 – 9 = 8 (кг) – масса ма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– 8 = 1 (кг) – масса канис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667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285768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3214800" y="1143000"/>
            <a:ext cx="2857320" cy="457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072120" y="1143000"/>
            <a:ext cx="25718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024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929200" y="1000080"/>
            <a:ext cx="2428920" cy="4714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539640" y="1000080"/>
            <a:ext cx="2603520" cy="471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3143160" y="1000080"/>
            <a:ext cx="2786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ANTN027"/>
          <p:cNvPicPr/>
          <p:nvPr/>
        </p:nvPicPr>
        <p:blipFill>
          <a:blip r:embed="rId1"/>
          <a:stretch/>
        </p:blipFill>
        <p:spPr>
          <a:xfrm>
            <a:off x="714240" y="500040"/>
            <a:ext cx="7500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05:24:31Z</dcterms:created>
  <dc:creator>User</dc:creator>
  <dc:description/>
  <dc:language>en-US</dc:language>
  <cp:lastModifiedBy>Начальная школа</cp:lastModifiedBy>
  <dcterms:modified xsi:type="dcterms:W3CDTF">2009-04-06T11:56:25Z</dcterms:modified>
  <cp:revision>14</cp:revision>
  <dc:subject/>
  <dc:title>Трейвик - магика</dc:title>
</cp:coreProperties>
</file>